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EE12-8F2D-483B-94CF-426F76EB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11A3-AE3F-4C2D-90D1-3F494A1A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6371-8456-48DA-850B-F59B5E69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294E-D39F-4B8C-9C6C-E2D36476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442C-BC10-4DCB-AC58-82E791A9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BF97-01D9-4CD8-B3B4-ABC3C897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5B1A-2BF4-46DC-B5CE-408169EC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E2D9-0705-4575-8F16-259A0113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4CF9-27B2-4F47-80A8-614CCFC3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864E-3B9E-489A-A310-249D0A54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33A7-C2FF-40C1-9CAA-F290A02E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C07C-DF9D-4A32-8114-A2D06949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5C26-8A4A-43FC-B90F-C8C5B748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0821-835E-43C7-AF06-8F59479B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3284-4049-4B13-998B-8F6CB412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0615-BCF7-4C16-B073-36140BC2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FEE7-7E6B-4E6B-BDCB-B6C6C6F4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FEB0-52FA-434A-8230-242A3272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FA1A-5462-4B36-AA07-B6C409EC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0DB44-A9C4-4872-9D7F-4B8EC22F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F1B-37A1-4946-B03B-FAFA54B1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507AD-3C4D-4D0E-A2AF-5F4B9915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FD4BB-50EB-4216-B00C-C94BE25E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8C608-B9DA-4FEF-9ED1-80C1F71D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4ACB3-FA81-405E-ACE4-7DC14AEA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36CA8-D4B2-4F11-86A8-67E30433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89D08-32C9-4D12-86F1-2EF42A4E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8EAAA-92C5-43FA-9434-8FEF4088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0EBCD-8C84-4DCB-8C14-C544A323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9092C-E559-4DF9-AB6D-0DD9E428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3C58A-20CC-4714-929C-30284344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E295-4E8C-4544-9767-7F83354D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D59CE-C698-422C-8338-6184BDF6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7675B-3B70-4C79-8911-BBCC171C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E7E47-70D4-487D-8809-C34AA314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B588E-AEB9-4F47-ABCF-FB525BB3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DD41B-60E1-4893-854F-078A2F65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28B12-3FE0-49D3-9D7F-32116F33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DA3B9-DFCE-4F4C-9BE8-8038DC49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8FF76-BDBC-4067-8814-047ABB0B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191A1-3E21-4BD3-8963-E041DF08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3A593-C1B7-4727-818F-60E569D5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6AA7-73D0-48A6-A197-AE8F64F0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5990A-7A3A-4EE1-93C5-DEBA6009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59241-1C7D-4908-80D0-C16E480A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3F98A-3AEC-40EF-9E1E-ACB67B2E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2FA6-4997-4D01-B67C-925DC92C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AE54-C507-4937-998C-D099395C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A7A00163-93CF-4A14-A81A-9B1E537814AF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82AC29F9-1714-45D6-8666-E182788F9F2E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C14D51BA-FF0E-4622-844C-4C1A20E4B303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63EAAF73-7C14-49DE-BBA3-3F8075FB937E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1988640"/>
            <a:ext cx="10157040" cy="792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72000"/>
          </a:bodyPr>
          <a:p>
            <a:pPr marL="218160" indent="-21816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Wskaż najważniejsze elementy pierwszej pomocy w przypadku ataku epileptycznego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98440" y="1844280"/>
            <a:ext cx="10220400" cy="3102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Np.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zamortyzowanie upadku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ochrona głowy poszkodowanego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zapewnienie komfortu termicznego i psychicznego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54:5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